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7.png" ContentType="image/pn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17A-2CB6-403A-A025-BB65DB94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469-FD61-48F4-8787-F5FF44B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294-5DC7-4E63-A854-F789D91F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174-A1D0-4FCF-9D56-5AF24B05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7EB-58A9-4CDA-A4D0-BA194811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D3E-2FAA-4BA2-B221-4E64D72B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928-1275-4E55-92E3-D6FE700C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C55-B5BB-415F-860F-120368B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5DB-F794-4F81-8DFE-F879A43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E2E-3B93-4685-960B-55D86E3C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105-C29F-468A-B4AB-DC41B31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3A7-B67A-4C19-A5A0-120B23A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41E7-4A1C-4795-A1DC-26B10D9680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38960" y="8380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  幸福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37520" y="15559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届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大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7920" y="6121440"/>
            <a:ext cx="1222380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920" y="-22320"/>
            <a:ext cx="10277280" cy="412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1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01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1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7920" y="2886120"/>
            <a:ext cx="1219824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7920" y="6705720"/>
            <a:ext cx="122000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920" y="-9360"/>
            <a:ext cx="12200040" cy="7286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920" y="6705720"/>
            <a:ext cx="1219824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dc:language>en-US</dc:language>
  <cp:lastModifiedBy>微软用户</cp:lastModifiedBy>
  <dcterms:modified xsi:type="dcterms:W3CDTF">2014-08-22T06:48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